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  <p:custShowLst>
    <p:custShow name="(1.1)" id="0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F635-2DA6-4D22-AE02-ACA5B78BD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F790-1E57-4368-BAAF-2C758F09D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2531-6A65-4C3C-A48F-AC95925F0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EFA2-7636-4C31-A2E6-DBE517EA7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DAC6-0B9A-4F35-9F9A-1CCA36B43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263A-187A-4E73-9BBB-229159FF3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3290-D6FF-419A-AF7E-FC0EE6E32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DD7F-6A42-4AAB-8C9F-797BEDFDC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E9B4-3DC4-46F9-896F-522F0F366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B512-27A5-492D-BC71-4E87FA281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6477-01A5-4BBF-A96B-35CD3BE72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AAB5-9595-47D9-986A-EE23160F3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C3D7-3992-44C5-B3B4-2CB24F9C8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18F0-8069-4357-B882-06DA4009D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4442-441C-4C5D-98B0-383CCB96F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5888-25F1-4FEC-AA04-2DA197F9F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89A3-5D04-4720-B47E-52D36F69F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56B8-6996-43D2-8E23-C096E58B8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51DC-3BF6-4C5B-A2F1-928722BA8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822F-93A5-4AE0-A73D-0ADFC6CD9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38D0-938F-4607-A93E-3B564379C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5953-E120-42FF-A68A-9B070D566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A1BA-9B19-4B87-AED6-EAE30A9D6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733F-04A5-4D7F-A9FA-52CFAAB9C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6573-3052-4930-8378-FB079900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BA96-22C3-4666-889B-9B51CFB0F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4F0D-A86F-4170-9A76-0C83A935F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2193-30E0-4638-86B6-ADD09BFD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D28D-1941-4A89-B69B-CCFACBDF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390D-64C9-4AED-955F-3E02D702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730B-3621-40BE-880E-CE9E101A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F138-7C81-4B13-A64B-5B2D4A3A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CDB6-0909-433C-8615-EF76D50A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D569-F140-4076-B0E5-B47854FD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B7C4-9AE9-4FCA-9756-AA4F3FEF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DE7E-B91F-4A2F-B86C-3AD41C8FA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5.xml"/><Relationship Id="rId11" Type="http://schemas.openxmlformats.org/officeDocument/2006/relationships/slide" Target=""/><Relationship Id="rId12" Type="http://schemas.openxmlformats.org/officeDocument/2006/relationships/slide" Target="slide16.xml"/><Relationship Id="rId13" Type="http://schemas.openxmlformats.org/officeDocument/2006/relationships/slide" Target=""/><Relationship Id="rId14" Type="http://schemas.openxmlformats.org/officeDocument/2006/relationships/slide" Target="slide14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slide11.xml"/><Relationship Id="rId20" Type="http://schemas.openxmlformats.org/officeDocument/2006/relationships/slide" Target=""/><Relationship Id="rId21" Type="http://schemas.openxmlformats.org/officeDocument/2006/relationships/slide" Target="slide12.xml"/><Relationship Id="rId22" Type="http://schemas.openxmlformats.org/officeDocument/2006/relationships/slide" Target=""/><Relationship Id="rId23" Type="http://schemas.openxmlformats.org/officeDocument/2006/relationships/slide" Target="slide13.xml"/><Relationship Id="rId24" Type="http://schemas.openxmlformats.org/officeDocument/2006/relationships/slide" Target=""/><Relationship Id="rId25" Type="http://schemas.openxmlformats.org/officeDocument/2006/relationships/slide" Target="slide9.xml"/><Relationship Id="rId26" Type="http://schemas.openxmlformats.org/officeDocument/2006/relationships/slide" Target=""/><Relationship Id="rId27" Type="http://schemas.openxmlformats.org/officeDocument/2006/relationships/slide" Target="slide17.xml"/><Relationship Id="rId28" Type="http://schemas.openxmlformats.org/officeDocument/2006/relationships/slide" Target=""/><Relationship Id="rId29" Type="http://schemas.openxmlformats.org/officeDocument/2006/relationships/slide" Target="slide7.xml"/><Relationship Id="rId30" Type="http://schemas.openxmlformats.org/officeDocument/2006/relationships/slide" Target=""/><Relationship Id="rId31" Type="http://schemas.openxmlformats.org/officeDocument/2006/relationships/slide" Target="slide6.xml"/><Relationship Id="rId32" Type="http://schemas.openxmlformats.org/officeDocument/2006/relationships/slide" Target=""/><Relationship Id="rId33" Type="http://schemas.openxmlformats.org/officeDocument/2006/relationships/slide" Target="slide19.xml"/><Relationship Id="rId34" Type="http://schemas.openxmlformats.org/officeDocument/2006/relationships/slide" Target=""/><Relationship Id="rId35" Type="http://schemas.openxmlformats.org/officeDocument/2006/relationships/slide" Target="slide20.xml"/><Relationship Id="rId36" Type="http://schemas.openxmlformats.org/officeDocument/2006/relationships/slide" Target=""/><Relationship Id="rId37" Type="http://schemas.openxmlformats.org/officeDocument/2006/relationships/slide" Target="slide21.xml"/><Relationship Id="rId38" Type="http://schemas.openxmlformats.org/officeDocument/2006/relationships/slide" Target=""/><Relationship Id="rId39" Type="http://schemas.openxmlformats.org/officeDocument/2006/relationships/slide" Target="slide22.xml"/><Relationship Id="rId40" Type="http://schemas.openxmlformats.org/officeDocument/2006/relationships/slide" Target="slide3.xml"/><Relationship Id="rId41" Type="http://schemas.openxmlformats.org/officeDocument/2006/relationships/slideLayout" Target="../slideLayouts/slideLayout1.xml"/><Relationship Id="rId4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A:\g1logo.gif"/>
          <p:cNvPicPr/>
          <p:nvPr/>
        </p:nvPicPr>
        <p:blipFill>
          <a:blip r:embed="rId1"/>
          <a:stretch/>
        </p:blipFill>
        <p:spPr>
          <a:xfrm>
            <a:off x="2209680" y="1905120"/>
            <a:ext cx="464832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4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perpendicular li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4419720" y="1905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0"/>
          <p:cNvSpPr/>
          <p:nvPr/>
        </p:nvSpPr>
        <p:spPr>
          <a:xfrm>
            <a:off x="3200400" y="3048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equilateral tri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3581280" y="2590920"/>
            <a:ext cx="1905120" cy="1447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3200400" y="1523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y by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parallelogr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2819520" y="2438280"/>
            <a:ext cx="3962160" cy="1600200"/>
          </a:xfrm>
          <a:prstGeom prst="parallelogram">
            <a:avLst>
              <a:gd name="adj" fmla="val 61901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acute 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1"/>
          <p:cNvSpPr/>
          <p:nvPr/>
        </p:nvSpPr>
        <p:spPr>
          <a:xfrm flipV="1">
            <a:off x="4038480" y="1752120"/>
            <a:ext cx="14479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4038480" y="33526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intersecting li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9"/>
          <p:cNvSpPr/>
          <p:nvPr/>
        </p:nvSpPr>
        <p:spPr>
          <a:xfrm flipV="1">
            <a:off x="3200400" y="2133360"/>
            <a:ext cx="274320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0"/>
          <p:cNvSpPr/>
          <p:nvPr/>
        </p:nvSpPr>
        <p:spPr>
          <a:xfrm>
            <a:off x="3276720" y="2590920"/>
            <a:ext cx="312408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990720" y="9907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right tri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3809880" y="1752480"/>
            <a:ext cx="2667240" cy="243864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3048120" y="12193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y by 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trapezoi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2971800" y="2209680"/>
            <a:ext cx="3048120" cy="1600200"/>
          </a:xfrm>
          <a:custGeom>
            <a:avLst/>
            <a:gdLst>
              <a:gd name="textAreaLeft" fmla="*/ 635040 w 3048120"/>
              <a:gd name="textAreaRight" fmla="*/ 2413080 w 3048120"/>
              <a:gd name="textAreaTop" fmla="*/ 333360 h 1600200"/>
              <a:gd name="textAreaBottom" fmla="*/ 126684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6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is a right 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8"/>
          <p:cNvSpPr/>
          <p:nvPr/>
        </p:nvSpPr>
        <p:spPr>
          <a:xfrm flipV="1">
            <a:off x="4114800" y="21333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4114800" y="3581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ra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8"/>
          <p:cNvSpPr/>
          <p:nvPr/>
        </p:nvSpPr>
        <p:spPr>
          <a:xfrm flipV="1">
            <a:off x="3352680" y="2361960"/>
            <a:ext cx="2895840" cy="1523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acute tri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3048120" y="1447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y by 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9"/>
          <p:cNvSpPr/>
          <p:nvPr/>
        </p:nvSpPr>
        <p:spPr>
          <a:xfrm>
            <a:off x="3733920" y="2514600"/>
            <a:ext cx="1904760" cy="17524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4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5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8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0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2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4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6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8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228600" y="380880"/>
            <a:ext cx="160020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4"/>
          <p:cNvSpPr/>
          <p:nvPr/>
        </p:nvSpPr>
        <p:spPr>
          <a:xfrm>
            <a:off x="2362320" y="380880"/>
            <a:ext cx="1752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adrilater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4876920" y="380880"/>
            <a:ext cx="160020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7010280" y="380880"/>
            <a:ext cx="160020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7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28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0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31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32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33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35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36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37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38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39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40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44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6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squa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3581280" y="1981080"/>
            <a:ext cx="221004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straight 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9"/>
          <p:cNvSpPr/>
          <p:nvPr/>
        </p:nvSpPr>
        <p:spPr>
          <a:xfrm>
            <a:off x="4495680" y="3276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"/>
          <p:cNvSpPr/>
          <p:nvPr/>
        </p:nvSpPr>
        <p:spPr>
          <a:xfrm flipH="1">
            <a:off x="2590560" y="32767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8"/>
          <p:cNvSpPr/>
          <p:nvPr/>
        </p:nvSpPr>
        <p:spPr>
          <a:xfrm>
            <a:off x="2895480" y="3048120"/>
            <a:ext cx="33530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scalene triangl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4038480" y="2133720"/>
            <a:ext cx="1646280" cy="2361960"/>
          </a:xfrm>
          <a:prstGeom prst="rtTriangl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3276720" y="121932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3352680" y="12193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y by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rect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3200400" y="2286000"/>
            <a:ext cx="2819520" cy="1523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12300"/>
              <a:gd name="adj2" fmla="val -1076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verte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9"/>
          <p:cNvSpPr/>
          <p:nvPr/>
        </p:nvSpPr>
        <p:spPr>
          <a:xfrm flipV="1">
            <a:off x="3429000" y="1828440"/>
            <a:ext cx="137160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oval" w="lg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0"/>
          <p:cNvSpPr/>
          <p:nvPr/>
        </p:nvSpPr>
        <p:spPr>
          <a:xfrm>
            <a:off x="3429000" y="33526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1"/>
          <p:cNvSpPr/>
          <p:nvPr/>
        </p:nvSpPr>
        <p:spPr>
          <a:xfrm>
            <a:off x="2362320" y="2666880"/>
            <a:ext cx="91440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91440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parallel li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3200400" y="2209680"/>
            <a:ext cx="2819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3200400" y="2743200"/>
            <a:ext cx="2819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isosceles tri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3733920" y="1981080"/>
            <a:ext cx="2103480" cy="237816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3276720" y="1447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3429000" y="1371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y by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rhomb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3581280" y="2362320"/>
            <a:ext cx="1981440" cy="1447560"/>
          </a:xfrm>
          <a:prstGeom prst="parallelogram">
            <a:avLst>
              <a:gd name="adj" fmla="val 3422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4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obtuse 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8"/>
          <p:cNvSpPr/>
          <p:nvPr/>
        </p:nvSpPr>
        <p:spPr>
          <a:xfrm flipH="1" flipV="1">
            <a:off x="2819160" y="1904760"/>
            <a:ext cx="1143000" cy="14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3962520" y="33526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Sue Nielsen</cp:lastModifiedBy>
  <dcterms:modified xsi:type="dcterms:W3CDTF">2010-02-08T02:00:14Z</dcterms:modified>
  <cp:revision>48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